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865-AC84-4F98-8DC2-B5EC957E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E13-A629-449B-8E02-D42ECB19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1F2-17DF-40A7-906E-0EFFC540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BFA8-6F34-4FA0-BC08-F1DBB12F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07B0-7460-4C43-86FF-7B393B29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881F-B900-4966-8CF2-B3E351CC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B102-16DD-41E3-A3E2-1358915D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ED11-3FFE-4EEF-B540-28B6E570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2DE8-72E0-4BD6-BBE0-2AF55BE0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6E41-5986-4D17-A8C5-310658F6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5771-D152-4AC6-9160-EE6CD7C5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B3AE-B248-495E-8773-1465D6F2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E613-93DB-4B1E-B1DF-3D67EC93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88ED-2606-43C3-A155-AF16E4B8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A36B-B179-4B69-BE88-8F7D5ADF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F9ED-EA03-41BC-9B3A-9485894D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1A22-9903-4984-AC1C-E6EAE111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11621-AAB8-4D43-97D2-42F5079D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EB94B-9B9B-4054-AC89-A66D486F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4AC4F-9942-4131-AEA4-18793D7E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32997-6765-4C90-93B5-A5DC004B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80699-1B48-4B16-B5E8-C4D24C01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4C39-4BEF-4443-997F-672E52C9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E5F0-B803-4674-BD96-B1FD1400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64E92-FF55-4CB9-98B8-BA8C5952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CEFD8-5FD3-427D-A0CF-52690AC2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66CD1-8E7F-4911-B1D3-FB82696E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AC637-3B7D-4F1E-AAA1-C0D5E7A9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6A81A-4AB0-4CC9-A16C-A6BE2A06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1FD6A-5C7B-4C58-BB80-083BBE2E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4A152-1BBA-4E11-868C-23AD85BC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44B99-2CBA-465E-84BC-08C98C5B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A0CD2-53D4-4CA1-A26A-93579272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EDF-EDB2-4D68-A74F-34A2D95B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92DEA-84C7-400F-ABFA-8E3A9188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54D20-91ED-4F9D-863C-F36D5D83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AA7D7-03C1-496A-BCFA-DE2EB8FC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9280C-6DEF-4A84-9296-EDDE52D6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3385E-F17B-4097-8AC9-4E981940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13CF3-E074-4946-B0A0-47ACE48E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F38F2-09EE-44C4-AF38-D1158B9D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9264C-7A3F-4A1E-AC8F-2035868B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1E5E7-AFF8-4B07-980B-6EFCC8FA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8F383-D975-4DD7-B3D2-FF7F9082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1015-5A20-4BAF-99A0-B0EB1811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C6995-91F2-4D2E-B2A8-255B62B3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39DE5-8193-4C1C-9833-7F103BC0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088F5-8E4D-43C8-BAF8-0270299A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98697-1999-4D0D-95E6-BE527A9B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96743-819A-4030-9C11-D10ACDE6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F01BC-0DAD-4807-8EB0-E1D5FE33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94494-9792-4DE5-9FFD-6F65F852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CE905-0C7F-4342-9908-3F9349A3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7F009-8CD4-4822-944E-A32AECE0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D9A09-8E68-4058-B639-AE1D15D7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7AC-B5BC-49F8-9E3D-671D3556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E45DF-5A88-4F1F-B13A-F817A649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4FA-BDD0-46FF-B2E7-1D399FAA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9C55-F02C-4F9E-9BF4-EA8D9101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86B-EF71-4AAE-9704-A52E7E93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9EB2-F556-42FF-B324-B7FA7FF318C1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A23E-ECFA-4FE6-B106-DE9FBC70F388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1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CC1F-1F58-41B2-86A0-67736E53CBAA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6957-2EC2-4A24-8EB4-E48CF1C79DE8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C629-B445-4701-8FB9-B6668BA8A6DE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1 Imagen" descr="imagesCAMS19I4videojuegostitulo.jpg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1 Imagen" descr="09-03-13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2 Rectángulo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00"/>
                </a:solidFill>
                <a:latin typeface="Baskerville Old Face"/>
              </a:rPr>
              <a:t>De aventuras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3 Rectángulo"/>
          <p:cNvSpPr/>
          <p:nvPr/>
        </p:nvSpPr>
        <p:spPr>
          <a:xfrm>
            <a:off x="0" y="29671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Baskerville Old Face"/>
              </a:rPr>
              <a:t>Incorpora una alta interactivid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Baskerville Old Face"/>
              </a:rPr>
              <a:t>y la necesidad de tomar decisio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Baskerville Old Face"/>
              </a:rPr>
              <a:t>nes de forma constan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1 Imagen" descr="imagesCA09DTKMjuegos de rol.jpg"/>
          <p:cNvPicPr/>
          <p:nvPr/>
        </p:nvPicPr>
        <p:blipFill>
          <a:blip r:embed="rId1"/>
          <a:stretch/>
        </p:blipFill>
        <p:spPr>
          <a:xfrm>
            <a:off x="34920" y="0"/>
            <a:ext cx="907416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3 Rectángulo"/>
          <p:cNvSpPr/>
          <p:nvPr/>
        </p:nvSpPr>
        <p:spPr>
          <a:xfrm>
            <a:off x="0" y="0"/>
            <a:ext cx="499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ffff00"/>
                </a:solidFill>
                <a:latin typeface="Baskerville Old Face"/>
              </a:rPr>
              <a:t>De rol: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4 Rectángulo"/>
          <p:cNvSpPr/>
          <p:nvPr/>
        </p:nvSpPr>
        <p:spPr>
          <a:xfrm>
            <a:off x="0" y="213372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Baskerville Old Face"/>
              </a:rPr>
              <a:t>Dependen de la evolución de 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Baskerville Old Face"/>
              </a:rPr>
              <a:t>personajes y desarrollan el cálculo mental , el vocabulario, estimulan la creatividad, ciertos valores de socialización como la empatía, tolerancia y responsabilidad unidos al trabajo en equip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1 Imagen" descr="simulacion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2 CuadroTexto"/>
          <p:cNvSpPr/>
          <p:nvPr/>
        </p:nvSpPr>
        <p:spPr>
          <a:xfrm>
            <a:off x="0" y="0"/>
            <a:ext cx="6154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00"/>
                </a:solidFill>
                <a:latin typeface="Baskerville Old Face"/>
              </a:rPr>
              <a:t>De simulación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3 Rectángulo"/>
          <p:cNvSpPr/>
          <p:nvPr/>
        </p:nvSpPr>
        <p:spPr>
          <a:xfrm>
            <a:off x="0" y="269064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Baskerville Old Face"/>
              </a:rPr>
              <a:t>Son un buen instrumento para  entender, fomentando por ejemplo el gusto por la naturaleza, el consumo responsable y el respeto por los animal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1 Imagen" descr="imagenes-videojuegos-gran-turismo-5-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2 Rectángulo"/>
          <p:cNvSpPr/>
          <p:nvPr/>
        </p:nvSpPr>
        <p:spPr>
          <a:xfrm>
            <a:off x="0" y="0"/>
            <a:ext cx="525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738ac8"/>
                </a:solidFill>
                <a:latin typeface="Baskerville Old Face"/>
              </a:rPr>
              <a:t>De deportes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3 Rectángulo"/>
          <p:cNvSpPr/>
          <p:nvPr/>
        </p:nvSpPr>
        <p:spPr>
          <a:xfrm>
            <a:off x="0" y="33577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738ac8"/>
                </a:solidFill>
                <a:latin typeface="Baskerville Old Face"/>
              </a:rPr>
              <a:t>Favorece el entrenamiento  de habilidades , el procesamiento de información y el desarrollo psicomotri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1 Imagen" descr="clasif. por ed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4 CuadroTexto"/>
          <p:cNvSpPr/>
          <p:nvPr/>
        </p:nvSpPr>
        <p:spPr>
          <a:xfrm>
            <a:off x="2340000" y="549360"/>
            <a:ext cx="695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Perpetua"/>
              </a:rPr>
              <a:t>    </a:t>
            </a:r>
            <a:r>
              <a:rPr b="1" lang="es-ES" sz="3600" spc="-1" strike="noStrike">
                <a:solidFill>
                  <a:srgbClr val="ffc000"/>
                </a:solidFill>
                <a:latin typeface="Perpetua"/>
              </a:rPr>
              <a:t>Sugerido a partir de los 3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Perpetu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5 CuadroTexto"/>
          <p:cNvSpPr/>
          <p:nvPr/>
        </p:nvSpPr>
        <p:spPr>
          <a:xfrm flipV="1" rot="10800000">
            <a:off x="468000" y="1557000"/>
            <a:ext cx="215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000"/>
                </a:solidFill>
                <a:latin typeface="Baskerville Old Face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7 CuadroTexto"/>
          <p:cNvSpPr/>
          <p:nvPr/>
        </p:nvSpPr>
        <p:spPr>
          <a:xfrm flipV="1" rot="10800000">
            <a:off x="468360" y="25142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000"/>
                </a:solidFill>
                <a:latin typeface="Baskerville Old Face"/>
              </a:rPr>
              <a:t>E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9 CuadroTexto"/>
          <p:cNvSpPr/>
          <p:nvPr/>
        </p:nvSpPr>
        <p:spPr>
          <a:xfrm>
            <a:off x="395280" y="3333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c000"/>
                </a:solidFill>
                <a:latin typeface="Baskerville Old Face"/>
              </a:rPr>
              <a:t>E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1 Flecha derecha"/>
          <p:cNvSpPr/>
          <p:nvPr/>
        </p:nvSpPr>
        <p:spPr>
          <a:xfrm>
            <a:off x="1692360" y="549360"/>
            <a:ext cx="1079280" cy="64764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2 Flecha derecha"/>
          <p:cNvSpPr/>
          <p:nvPr/>
        </p:nvSpPr>
        <p:spPr>
          <a:xfrm>
            <a:off x="1763640" y="1700280"/>
            <a:ext cx="1079640" cy="64908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3 Flecha derecha"/>
          <p:cNvSpPr/>
          <p:nvPr/>
        </p:nvSpPr>
        <p:spPr>
          <a:xfrm>
            <a:off x="1835280" y="2708280"/>
            <a:ext cx="1081080" cy="6494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14 CuadroTexto"/>
          <p:cNvSpPr/>
          <p:nvPr/>
        </p:nvSpPr>
        <p:spPr>
          <a:xfrm>
            <a:off x="2843280" y="1557360"/>
            <a:ext cx="498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Baskerville Old Face"/>
              </a:rPr>
              <a:t>6 años en adel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15 CuadroTexto"/>
          <p:cNvSpPr/>
          <p:nvPr/>
        </p:nvSpPr>
        <p:spPr>
          <a:xfrm>
            <a:off x="2916360" y="2708280"/>
            <a:ext cx="322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Baskerville Old Face"/>
              </a:rPr>
              <a:t>10 años o m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16 CuadroTexto"/>
          <p:cNvSpPr/>
          <p:nvPr/>
        </p:nvSpPr>
        <p:spPr>
          <a:xfrm>
            <a:off x="395280" y="3573360"/>
            <a:ext cx="156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000"/>
                </a:solidFill>
                <a:latin typeface="Baskerville Old Face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17 Flecha derecha"/>
          <p:cNvSpPr/>
          <p:nvPr/>
        </p:nvSpPr>
        <p:spPr>
          <a:xfrm>
            <a:off x="1908000" y="3716280"/>
            <a:ext cx="1079640" cy="64944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18 CuadroTexto"/>
          <p:cNvSpPr/>
          <p:nvPr/>
        </p:nvSpPr>
        <p:spPr>
          <a:xfrm>
            <a:off x="2916360" y="3789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Baskerville Old Face"/>
              </a:rPr>
              <a:t>13 años o m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19 CuadroTexto"/>
          <p:cNvSpPr/>
          <p:nvPr/>
        </p:nvSpPr>
        <p:spPr>
          <a:xfrm>
            <a:off x="395280" y="4581360"/>
            <a:ext cx="109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000"/>
                </a:solidFill>
                <a:latin typeface="Baskerville Old Face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20 Flecha derecha"/>
          <p:cNvSpPr/>
          <p:nvPr/>
        </p:nvSpPr>
        <p:spPr>
          <a:xfrm>
            <a:off x="1908000" y="4797360"/>
            <a:ext cx="1079640" cy="6476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22 CuadroTexto"/>
          <p:cNvSpPr/>
          <p:nvPr/>
        </p:nvSpPr>
        <p:spPr>
          <a:xfrm>
            <a:off x="2987640" y="4797360"/>
            <a:ext cx="442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Baskerville Old Face"/>
              </a:rPr>
              <a:t>Mayores de 17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23 CuadroTexto"/>
          <p:cNvSpPr/>
          <p:nvPr/>
        </p:nvSpPr>
        <p:spPr>
          <a:xfrm>
            <a:off x="324000" y="5661000"/>
            <a:ext cx="144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000"/>
                </a:solidFill>
                <a:latin typeface="Baskerville Old Face"/>
              </a:rPr>
              <a:t>A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24 Flecha derecha"/>
          <p:cNvSpPr/>
          <p:nvPr/>
        </p:nvSpPr>
        <p:spPr>
          <a:xfrm>
            <a:off x="1908000" y="5877000"/>
            <a:ext cx="1079640" cy="6476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25 CuadroTexto"/>
          <p:cNvSpPr/>
          <p:nvPr/>
        </p:nvSpPr>
        <p:spPr>
          <a:xfrm>
            <a:off x="2916360" y="5589720"/>
            <a:ext cx="622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Baskerville Old Face"/>
              </a:rPr>
              <a:t>Escenas de violencia, sexo, ra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Baskerville Old Face"/>
              </a:rPr>
              <a:t>cismo y se sugiere para  adul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1 Imagen" descr="clasif droga, sexo, lenguaje, sexo y violencia.jpg"/>
          <p:cNvPicPr/>
          <p:nvPr/>
        </p:nvPicPr>
        <p:blipFill>
          <a:blip r:embed="rId1"/>
          <a:stretch/>
        </p:blipFill>
        <p:spPr>
          <a:xfrm>
            <a:off x="1187280" y="0"/>
            <a:ext cx="675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1 CuadroTexto"/>
          <p:cNvGrpSpPr/>
          <p:nvPr/>
        </p:nvGrpSpPr>
        <p:grpSpPr>
          <a:xfrm>
            <a:off x="-66600" y="-219240"/>
            <a:ext cx="9277200" cy="7358400"/>
            <a:chOff x="-66600" y="-219240"/>
            <a:chExt cx="9277200" cy="7358400"/>
          </a:xfrm>
        </p:grpSpPr>
        <p:pic>
          <p:nvPicPr>
            <p:cNvPr id="234" name="1 CuadroTexto" descr=""/>
            <p:cNvPicPr/>
            <p:nvPr/>
          </p:nvPicPr>
          <p:blipFill>
            <a:blip r:embed="rId1"/>
            <a:stretch/>
          </p:blipFill>
          <p:spPr>
            <a:xfrm>
              <a:off x="-66600" y="-219240"/>
              <a:ext cx="9277200" cy="735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0" y="0"/>
              <a:ext cx="9144000" cy="58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6000" spc="-1" strike="noStrike">
                  <a:solidFill>
                    <a:srgbClr val="ffff00"/>
                  </a:solidFill>
                  <a:latin typeface="Baskerville Old Face"/>
                </a:rPr>
                <a:t>Videojuegos como dispositivos culturales: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400" spc="-1" strike="noStrike">
                  <a:solidFill>
                    <a:srgbClr val="ffff00"/>
                  </a:solidFill>
                  <a:latin typeface="Baskerville Old Face"/>
                </a:rPr>
                <a:t>“</a:t>
              </a:r>
              <a:r>
                <a:rPr b="1" lang="es-ES" sz="4400" spc="-1" strike="noStrike">
                  <a:solidFill>
                    <a:srgbClr val="ffff00"/>
                  </a:solidFill>
                  <a:latin typeface="Baskerville Old Face"/>
                </a:rPr>
                <a:t>las competencias espaciales en educación”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400" spc="-1" strike="noStrike">
                  <a:solidFill>
                    <a:srgbClr val="ffff00"/>
                  </a:solidFill>
                  <a:latin typeface="Baskerville Old Face"/>
                </a:rPr>
                <a:t>Autora: Ana Sedeñ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400" spc="-1" strike="noStrike">
                  <a:solidFill>
                    <a:srgbClr val="ffff00"/>
                  </a:solidFill>
                  <a:latin typeface="Baskerville Old Face"/>
                </a:rPr>
                <a:t>(Málaga – España)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400" spc="-1" strike="noStrike">
                  <a:solidFill>
                    <a:srgbClr val="ffff00"/>
                  </a:solidFill>
                  <a:latin typeface="Baskerville Old Face"/>
                </a:rPr>
                <a:t>201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1 CuadroTexto"/>
          <p:cNvGrpSpPr/>
          <p:nvPr/>
        </p:nvGrpSpPr>
        <p:grpSpPr>
          <a:xfrm>
            <a:off x="-390600" y="-219240"/>
            <a:ext cx="10088640" cy="11011680"/>
            <a:chOff x="-390600" y="-219240"/>
            <a:chExt cx="10088640" cy="11011680"/>
          </a:xfrm>
        </p:grpSpPr>
        <p:pic>
          <p:nvPicPr>
            <p:cNvPr id="237" name="1 CuadroTexto" descr=""/>
            <p:cNvPicPr/>
            <p:nvPr/>
          </p:nvPicPr>
          <p:blipFill>
            <a:blip r:embed="rId1"/>
            <a:stretch/>
          </p:blipFill>
          <p:spPr>
            <a:xfrm>
              <a:off x="-390600" y="-219240"/>
              <a:ext cx="10088640" cy="870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0" y="0"/>
              <a:ext cx="9572760" cy="107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ffc000"/>
                  </a:solidFill>
                  <a:latin typeface="Baskerville Old Face"/>
                </a:rPr>
                <a:t>La presente investigación sostiene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ffc000"/>
                  </a:solidFill>
                  <a:latin typeface="Baskerville Old Face"/>
                </a:rPr>
                <a:t>que es imprescindible su análisi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ffc000"/>
                  </a:solidFill>
                  <a:latin typeface="Baskerville Old Face"/>
                </a:rPr>
                <a:t>por su importancia como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ffc000"/>
                  </a:solidFill>
                  <a:latin typeface="Baskerville Old Face"/>
                </a:rPr>
                <a:t>herramienta educativa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 u="sng">
                  <a:solidFill>
                    <a:srgbClr val="ffc000"/>
                  </a:solidFill>
                  <a:uFillTx/>
                  <a:latin typeface="Baskerville Old Face"/>
                </a:rPr>
                <a:t>como</a:t>
              </a:r>
              <a:r>
                <a:rPr b="0" lang="es-ES" sz="5400" spc="-1" strike="noStrike">
                  <a:solidFill>
                    <a:srgbClr val="ffc000"/>
                  </a:solidFill>
                  <a:latin typeface="Baskerville Old Face"/>
                </a:rPr>
                <a:t>       recurso didáctic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ffc000"/>
                  </a:solidFill>
                  <a:latin typeface="Baskerville Old Face"/>
                </a:rPr>
                <a:t>                </a:t>
              </a:r>
              <a:r>
                <a:rPr b="0" lang="es-ES" sz="5400" spc="-1" strike="noStrike">
                  <a:solidFill>
                    <a:srgbClr val="ffc000"/>
                  </a:solidFill>
                  <a:latin typeface="Baskerville Old Face"/>
                </a:rPr>
                <a:t>dispositivo cultural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ffc000"/>
                  </a:solidFill>
                  <a:latin typeface="Baskerville Old Face"/>
                </a:rPr>
                <a:t>                </a:t>
              </a:r>
              <a:r>
                <a:rPr b="0" lang="es-ES" sz="5400" spc="-1" strike="noStrike">
                  <a:solidFill>
                    <a:srgbClr val="ffc000"/>
                  </a:solidFill>
                  <a:latin typeface="Baskerville Old Face"/>
                </a:rPr>
                <a:t>representación espacial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9" name="3 Conector recto de flecha"/>
          <p:cNvCxnSpPr/>
          <p:nvPr/>
        </p:nvCxnSpPr>
        <p:spPr>
          <a:xfrm>
            <a:off x="1763280" y="4581000"/>
            <a:ext cx="577080" cy="108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240" name="5 Conector recto de flecha"/>
          <p:cNvCxnSpPr/>
          <p:nvPr/>
        </p:nvCxnSpPr>
        <p:spPr>
          <a:xfrm>
            <a:off x="1763280" y="4581000"/>
            <a:ext cx="577080" cy="57708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241" name="10 Conector recto de flecha"/>
          <p:cNvCxnSpPr/>
          <p:nvPr/>
        </p:nvCxnSpPr>
        <p:spPr>
          <a:xfrm>
            <a:off x="1763280" y="4581360"/>
            <a:ext cx="648360" cy="13694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1 Imagen" descr="recursos didácticos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243" name="2 CuadroTexto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5fa326"/>
                </a:solidFill>
                <a:latin typeface="Baskerville Old Face"/>
              </a:rPr>
              <a:t>Recurso   didáctico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3 CuadroTexto"/>
          <p:cNvSpPr/>
          <p:nvPr/>
        </p:nvSpPr>
        <p:spPr>
          <a:xfrm>
            <a:off x="0" y="386064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d0d0d"/>
                </a:solidFill>
                <a:latin typeface="Baskerville Old Face"/>
              </a:rPr>
              <a:t>Como juegos son una acción creativ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d0d0d"/>
                </a:solidFill>
                <a:latin typeface="Baskerville Old Face"/>
              </a:rPr>
              <a:t>ficticia y experimental que signi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d0d0d"/>
                </a:solidFill>
                <a:latin typeface="Baskerville Old Face"/>
              </a:rPr>
              <a:t>seguir reglas y estrategias par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d0d0d"/>
                </a:solidFill>
                <a:latin typeface="Baskerville Old Face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1 Imagen" descr="representación espacia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2 CuadroTexto"/>
          <p:cNvSpPr/>
          <p:nvPr/>
        </p:nvSpPr>
        <p:spPr>
          <a:xfrm>
            <a:off x="-281520" y="692280"/>
            <a:ext cx="886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000"/>
                </a:solidFill>
                <a:latin typeface="Baskerville Old Face"/>
              </a:rPr>
              <a:t>Representación  espacia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3 CuadroTexto"/>
          <p:cNvSpPr/>
          <p:nvPr/>
        </p:nvSpPr>
        <p:spPr>
          <a:xfrm>
            <a:off x="0" y="3141720"/>
            <a:ext cx="922032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000"/>
                </a:solidFill>
                <a:latin typeface="Perpetua"/>
              </a:rPr>
              <a:t>Tiene que ver con el desarrollo 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000"/>
                </a:solidFill>
                <a:latin typeface="Perpetua"/>
              </a:rPr>
              <a:t>algunos reflejos, favoreciendo l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000"/>
                </a:solidFill>
                <a:latin typeface="Perpetua"/>
              </a:rPr>
              <a:t>destrezas en el procesamiento 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000"/>
                </a:solidFill>
                <a:latin typeface="Perpetua"/>
              </a:rPr>
              <a:t>palabras que incluyen la compren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000"/>
                </a:solidFill>
                <a:latin typeface="Perpetua"/>
              </a:rPr>
              <a:t>en la naturaleza secuencial del te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1 Imagen" descr="imagescompartir juegos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49" name="2 CuadroTexto"/>
          <p:cNvSpPr/>
          <p:nvPr/>
        </p:nvSpPr>
        <p:spPr>
          <a:xfrm>
            <a:off x="-90000" y="549360"/>
            <a:ext cx="78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c000"/>
                </a:solidFill>
                <a:latin typeface="Baskerville Old Face"/>
              </a:rPr>
              <a:t>Dispositivo cultural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3 CuadroTexto"/>
          <p:cNvSpPr/>
          <p:nvPr/>
        </p:nvSpPr>
        <p:spPr>
          <a:xfrm>
            <a:off x="0" y="5307120"/>
            <a:ext cx="950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c000"/>
                </a:solidFill>
                <a:latin typeface="Baskerville Old Face"/>
              </a:rPr>
              <a:t>Es un medio masivo de socializ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1 Imagen" descr="Tipos de Videojueg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2 CuadroTexto"/>
          <p:cNvSpPr/>
          <p:nvPr/>
        </p:nvSpPr>
        <p:spPr>
          <a:xfrm flipV="1" rot="10800000">
            <a:off x="468360" y="2517480"/>
            <a:ext cx="88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0066"/>
                </a:solidFill>
                <a:latin typeface="Baskerville Old Face"/>
              </a:rPr>
              <a:t>Tipos   de   videojueg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1 Imagen" descr="garfield.jpg"/>
          <p:cNvPicPr/>
          <p:nvPr/>
        </p:nvPicPr>
        <p:blipFill>
          <a:blip r:embed="rId1"/>
          <a:stretch/>
        </p:blipFill>
        <p:spPr>
          <a:xfrm>
            <a:off x="0" y="11160"/>
            <a:ext cx="9396360" cy="6835680"/>
          </a:xfrm>
          <a:prstGeom prst="rect">
            <a:avLst/>
          </a:prstGeom>
          <a:ln w="0">
            <a:noFill/>
          </a:ln>
        </p:spPr>
      </p:pic>
      <p:sp>
        <p:nvSpPr>
          <p:cNvPr id="254" name="2 CuadroTexto"/>
          <p:cNvSpPr/>
          <p:nvPr/>
        </p:nvSpPr>
        <p:spPr>
          <a:xfrm>
            <a:off x="0" y="0"/>
            <a:ext cx="9144000" cy="85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00"/>
                </a:solidFill>
                <a:latin typeface="Baskerville Old Face"/>
              </a:rPr>
              <a:t>De acción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Baskerville Old Face"/>
              </a:rPr>
              <a:t>No hay que planificar  sin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Baskerville Old Face"/>
              </a:rPr>
              <a:t>interactuar con el entorno lo má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Baskerville Old Face"/>
              </a:rPr>
              <a:t>rápidamente posible mediant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Baskerville Old Face"/>
              </a:rPr>
              <a:t>acciones si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1 Imagen" descr="imagesCAEIGS5E-juegosde estragegia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56" name="2 Rectángulo"/>
          <p:cNvSpPr/>
          <p:nvPr/>
        </p:nvSpPr>
        <p:spPr>
          <a:xfrm>
            <a:off x="0" y="0"/>
            <a:ext cx="5322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00"/>
                </a:solidFill>
                <a:latin typeface="Baskerville Old Face"/>
              </a:rPr>
              <a:t>De estrategias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3 Rectángulo"/>
          <p:cNvSpPr/>
          <p:nvPr/>
        </p:nvSpPr>
        <p:spPr>
          <a:xfrm>
            <a:off x="0" y="263700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Baskerville Old Face"/>
              </a:rPr>
              <a:t>Se debe planificar y establecer estrategias para poder avanzar en el juego, con lo cual se desarrolla el pensamiento  lógico y la resolución 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Baskerville Old Face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21:24:19Z</dcterms:created>
  <dc:creator>Usuario</dc:creator>
  <dc:description/>
  <dc:language>en-US</dc:language>
  <cp:lastModifiedBy>Usuario</cp:lastModifiedBy>
  <dcterms:modified xsi:type="dcterms:W3CDTF">2011-10-13T00:28:21Z</dcterms:modified>
  <cp:revision>24</cp:revision>
  <dc:subject/>
  <dc:title>Diapositiva 1</dc:title>
</cp:coreProperties>
</file>